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516-EC70-4503-AB9A-172FD80C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077-D2FD-44E9-95C3-D955C118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DF8-2804-4DE1-9E58-F46DC00F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E17-FC4D-4721-AE00-1B8C62DA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541-EB05-420F-8302-E24D7E0C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A0AB-603B-43D3-B73E-D0F03B64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0665-11E1-4D8F-8665-9231B2BD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34DD-6E02-4F36-8E72-DF535E70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9B5B-56A7-4FFE-9419-E03BDC72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9658-EE63-423B-A8A9-E392B025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FB06-F6D4-4E60-A416-7C4A8CA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E7D-C1FF-4089-894B-47341A87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78DF-7164-4F6C-B8EC-F46E4F7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6A9A-30B5-4A02-857D-BDAEA40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38F0-5F63-496A-B82C-194A31C7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AAB2-00F9-4672-BFFE-8A460926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9BD1-4647-4AB1-AFD1-53B81D5B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973-2426-4B99-9EE5-CF3C0382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606-B2B8-4CE0-AB56-42FDF718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D78-A3F7-4759-9FB9-25534335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56A-5C71-4D41-8508-A23686AA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B59-8EF6-40B5-97C6-6D25C52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582-48E0-4053-BF3C-1DBA1ECF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211-127E-4D40-A30A-678007B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AFA4-94F2-431E-A2D1-D034269143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3EDB-CC4D-4DA9-89A6-2B2CCF3ECD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27280" y="404640"/>
            <a:ext cx="7772400" cy="1541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3300"/>
                </a:solidFill>
                <a:uFillTx/>
                <a:latin typeface="Bradley Hand ITC"/>
              </a:rPr>
              <a:t>A kocka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92360" y="2276640"/>
            <a:ext cx="6121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Bradley Hand ITC"/>
              </a:rPr>
              <a:t>A kocka életünk  alapjainak az alakzata. Ha csak szétnézünk magunk körül rengeteg kocka alakú test vesz minket körül!!!!!!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Bradley Hand ITC"/>
              </a:rPr>
              <a:t>A következőkben néhány érdekesség!!!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Edwardian Script ITC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00000" y="1773360"/>
            <a:ext cx="1943280" cy="187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0" y="476280"/>
            <a:ext cx="3772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 kockát 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gyenlő négyzetla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határolj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 kocka minden éle egyenlő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z ,,alsó’’ és a ,,felső’’ lap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lapnak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 több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oldallapn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nevezzü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 kockának 6 lapja, 12 éle, 8 csúcsa v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99640" y="37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55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1628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907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47640" y="342900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299736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78936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sú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340000" y="76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276720" y="1988640"/>
            <a:ext cx="431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ldal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ocka készítés fortélya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213372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213372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213372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213372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5280" y="3068640"/>
            <a:ext cx="865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119700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00360" y="1989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197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134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835280" y="105228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626920" y="1052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105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692000" y="1197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692000" y="1989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134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826920" y="2133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826920" y="2923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306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036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26920" y="4005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400536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4149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69200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692000" y="306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1052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4797360"/>
            <a:ext cx="1584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3860640"/>
            <a:ext cx="1584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3640" y="5734080"/>
            <a:ext cx="1584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4797360"/>
            <a:ext cx="9349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4797360"/>
            <a:ext cx="1584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4797360"/>
            <a:ext cx="9349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300360" y="4652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30036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43640" y="3644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7884720" y="364464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8000" y="3645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28000" y="386064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028000" y="4652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7236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28000" y="573408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028000" y="6524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72360" y="587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43640" y="6669000"/>
            <a:ext cx="1443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884720" y="6669000"/>
            <a:ext cx="1429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88000" y="6858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300360" y="573408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300360" y="65242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0720" y="587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842920" y="5589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842920" y="479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43280" y="4941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19640" y="393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981000"/>
            <a:ext cx="1512720" cy="1511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2492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00360" y="162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62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9079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90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26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115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95640" y="18900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60280"/>
            <a:ext cx="403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Felt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CDA’B’C’D’-     koc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= 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Követ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B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2997360"/>
            <a:ext cx="215892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Comic Sans MS"/>
              </a:rPr>
              <a:t>Biz: 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D’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= 3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333360"/>
            <a:ext cx="865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299736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3500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D’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= 3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D’B=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√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4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39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29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D’B=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4√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20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24360" y="2133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 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6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=a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3573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=4³=64cm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64000" y="299736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299736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 =6  T =6  AB²=6  4²=6  16=96c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11640" y="31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19840" y="3525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16360" y="3141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4000" y="3141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436572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7640" y="3141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3280" y="3860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3141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3300"/>
                </a:solidFill>
                <a:uFillTx/>
                <a:latin typeface="Bradley Hand ITC"/>
              </a:rPr>
              <a:t>Készítette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2421000"/>
            <a:ext cx="67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Czimerm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              </a:t>
            </a: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Adrie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      </a:t>
            </a: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VIII. osztály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28:46Z</dcterms:created>
  <dc:creator>123 456 789,00</dc:creator>
  <dc:description/>
  <dc:language>en-US</dc:language>
  <cp:lastModifiedBy>Zoli</cp:lastModifiedBy>
  <dcterms:modified xsi:type="dcterms:W3CDTF">2011-01-14T15:06:50Z</dcterms:modified>
  <cp:revision>7</cp:revision>
  <dc:subject/>
  <dc:title>A kocka</dc:title>
</cp:coreProperties>
</file>